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97E-B2AC-438E-95E4-338CA8C6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73A-95AD-4FE1-8736-0608F24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4DA-806F-4576-BBF8-8623E45C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D30-59C0-4492-A4B1-94529B4A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E630-B7FE-4BFD-957A-D86C0797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EBBA-3A35-4DC0-89A2-7D2D10E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0CA7-C4EE-44C2-96C7-07005149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8420-C3C6-4187-A465-90555F1A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5275-AC2A-44C1-8833-328350CA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FEB3-9A25-4FAC-BBE5-0A765BAB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4AE6-6F60-4B1C-A99F-83CBAB1C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2D2-DD6C-43A0-9DC1-40AC74C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6F25-0F06-4C4A-BFC6-5F62888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68EB-A7E5-4557-8926-A1637C9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326D-C08C-4AFD-BAB4-3E210D7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9615-DDE5-4909-B4F1-24F97357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3645-8A6F-4CC3-97B1-A452617C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7CA-7890-4A29-BEE2-A34EE002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608-23FD-4D41-8FDF-0F55954B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219-5B42-429F-8A89-E63913E9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377-272C-4E63-91DA-F7C690B9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A9E-6A0B-466C-9FF4-FA8F8EE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A91-4FC3-49F6-A26D-85C529B0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8FD-3E31-447F-87F9-D7F2BB52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FC84-9957-4496-898D-AC67F3B98FD6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D080-C6B7-4FDA-9A21-1096E3344A58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e Face on the Milk Carton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Book by: Caroline B. Cooney</a:t>
            </a:r>
            <a:br>
              <a:rPr sz="3200"/>
            </a:b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Powerpoint by: Keely Gambler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Exciting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5105160" cy="503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ystery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Surprising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Read Aloud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Pgs 71-72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hapter 8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88120" y="1143000"/>
            <a:ext cx="2627280" cy="441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524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638680" y="2133720"/>
            <a:ext cx="12960" cy="1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181480" cy="38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330660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29:01Z</dcterms:created>
  <dc:creator>cysd</dc:creator>
  <dc:description/>
  <dc:language>en-US</dc:language>
  <cp:lastModifiedBy>cysd</cp:lastModifiedBy>
  <dcterms:modified xsi:type="dcterms:W3CDTF">2008-11-21T14:10:02Z</dcterms:modified>
  <cp:revision>7</cp:revision>
  <dc:subject/>
  <dc:title>The Face on the Milk Carton</dc:title>
</cp:coreProperties>
</file>